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1C0-CF42-47BA-9510-A98B8522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96432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39D-A03C-451E-B6FA-24D0673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1C3-7891-4BEA-81CF-93569699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F28-09DD-4626-AF60-161E24E8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82E-EF16-40DE-844B-F250C3B3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560" y="396432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440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460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56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440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460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DD1-CCE1-4750-AC7C-3E07CD61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BBC-A34B-4C40-B18A-7B79CE0C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AE4-4079-40D2-B674-3C5CD18B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5D0-BE4B-40CC-8764-7C571C2D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BB3-4D3C-4FD2-8595-A0B7A18A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DEB-07E6-4DB7-AE09-33A8CFA7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BE1-7F11-489F-B88D-D00F87B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j0382574"/>
          <p:cNvPicPr/>
          <p:nvPr/>
        </p:nvPicPr>
        <p:blipFill>
          <a:blip r:embed="rId2"/>
          <a:stretch/>
        </p:blipFill>
        <p:spPr>
          <a:xfrm>
            <a:off x="4724280" y="24382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14E1-B8ED-4BDF-9EE7-39CFEE962E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A8C5-A8C6-403A-9776-01EFED27F5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j0382574"/>
          <p:cNvPicPr/>
          <p:nvPr/>
        </p:nvPicPr>
        <p:blipFill>
          <a:blip r:embed="rId2"/>
          <a:stretch/>
        </p:blipFill>
        <p:spPr>
          <a:xfrm>
            <a:off x="1752480" y="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gq6FOt5sy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hallows by Nicholas Car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apter 4,5,and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5333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ch Jones and Linda Dayw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4 The Deepening 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Lgq6FOt5sy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AC68-A324-4055-A487-1DAC6598EE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EDBA-51FC-4901-9EB8-D5B4A958888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DBEA-2F08-4523-9C30-D0055638D6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4CEE-0B02-418C-B269-35AB10D8872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5  A Medium of the most General Na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00FF-639F-48CA-A415-09C8B0DCAB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588C-45BB-4FD9-AF3F-D9737506681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15D7-44D7-4500-AA09-B46DB6CFA6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E61C-992E-4AE7-8652-D3D190F8C08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6  The Very Image of a 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50F8-423D-43E6-AE40-2C4B3D3096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0D3C-3023-4593-A8E0-87F50967A3D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0614-B961-43C0-9442-B1DADEEE48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943E-9EA6-48DB-8F38-35123FB73E5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44:05Z</dcterms:created>
  <dc:creator>Linda</dc:creator>
  <dc:description/>
  <dc:language>en-US</dc:language>
  <cp:lastModifiedBy>Linda</cp:lastModifiedBy>
  <dcterms:modified xsi:type="dcterms:W3CDTF">2011-02-06T18:36:40Z</dcterms:modified>
  <cp:revision>12</cp:revision>
  <dc:subject/>
  <dc:title>Slide 1</dc:title>
</cp:coreProperties>
</file>